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C849-5C30-4A3F-94A2-C172F8E41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3438-47BF-4B21-88FB-AC91E6F27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2CDA-056F-4FC3-BE96-8EB558A69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7414-1987-43EB-B252-6E5ECC08F2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10F7-969A-46F8-A8B8-37A49D733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2FAC-04EA-4332-AD2E-63626E878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C1C5-3B0E-49DC-8ABB-B62EEED57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3A8A-1C3C-4199-BD59-143075BFB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EE14-CE17-49D5-BA72-2F09AA35E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7AFA-518E-4A45-A103-D363E453F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C246-55EB-4862-B414-D193903FA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DBF3-54A4-4400-A114-5C9B64591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C3A5-1FD8-47F1-BFE1-0B847B5AB3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0BC3-AF2A-4D40-808C-9055C48B7D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The Journey Beg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2362320"/>
            <a:ext cx="78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Excerpt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Give Effective Feedback to your Studen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usan Brookh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ptional Ho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 know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xamples of generalization and justification in stud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crete models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connections between patterning and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AAF1-BEAF-4588-9A6D-97A79093CB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CBA4-B930-4255-91E7-4DF4D561AF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AADF-A5A9-424C-894D-FD17D0D09A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C810-FE11-44F3-AE85-AAE6B61ACB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0880" y="10666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 Who are We?  ~ 1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stickers on chart paper to create bar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al Glyph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tructions on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9480" indent="-481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74320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666880"/>
            <a:ext cx="5181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urses you have experience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ne or two courses your intereste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xperienced AND inter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3526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3352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Personal Goals ~ 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the Ques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Why did you come to Math Camppp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lustrate your groups’ responses on chart paper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D9CC-DA88-4B79-B2F4-AFB2C35A34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CA49-6629-4819-A8DC-DF1C919E3F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iscuss examples of Algebraic Thinking in student samples from the “Cube Sticker Probl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 to Generalization Strategies and Justification Framework from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13040" indent="-5335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8160" indent="-62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pair.  Share and compare you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BE89-98DB-4DBA-B6C7-37B851E5FA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3CD8-01BE-4980-9F1A-1A615B47B3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876560" y="1523880"/>
            <a:ext cx="3505320" cy="1066680"/>
            <a:chOff x="4876560" y="1523880"/>
            <a:chExt cx="3505320" cy="1066680"/>
          </a:xfrm>
        </p:grpSpPr>
        <p:sp>
          <p:nvSpPr>
            <p:cNvPr id="76" name=""/>
            <p:cNvSpPr/>
            <p:nvPr/>
          </p:nvSpPr>
          <p:spPr>
            <a:xfrm>
              <a:off x="4952880" y="1523880"/>
              <a:ext cx="3429000" cy="838080"/>
            </a:xfrm>
            <a:prstGeom prst="cloudCallout">
              <a:avLst>
                <a:gd name="adj1" fmla="val -23379"/>
                <a:gd name="adj2" fmla="val 429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876560" y="2286000"/>
              <a:ext cx="6094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10080" y="17524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Work with a 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Viewing the Area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ly, work through the hando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Modelin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Quadratic </a:t>
            </a:r>
            <a:r>
              <a:rPr b="1" lang="en-CA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ctions with Square Tiles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are your insights, ideas, and questions with yo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9417-3E00-43F6-8757-CAD87CB846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76C4-2834-4C10-AE04-11F16519DF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380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4000"/>
          </a:bodyPr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Organizer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 organizer to help you record and reflect on your personal  learning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540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erspective Pass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-book to record interesting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at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2000" indent="-383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 organizer to illustrate your travels and the pathways betwee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B522-3B65-47E6-B9F0-968BE45E5A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C552-DD87-4384-83F2-F554979648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7696080" y="3733920"/>
            <a:ext cx="1227240" cy="114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670536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85EF-8CA8-4F35-98D0-7150990EC9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3FA0-8B7A-4400-8D8A-7244FE2C1C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a question you have from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’m wondering about….”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I’m confused about…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would like to learn more about…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it on a sticky note, and attach it to your gly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69F8-DD71-489F-9243-5F479EF0CC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8B11-8859-44E9-AD3B-B2570F2A93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09T17:50:47Z</dcterms:modified>
  <cp:revision>28</cp:revision>
  <dc:subject/>
  <dc:title>&lt;Title&gt;</dc:title>
</cp:coreProperties>
</file>